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9710-0826-4006-B169-889DFE609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F790-8518-4E5E-A0CA-BBD2AD765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1333-17B0-4460-ADCA-AC5B6FA4A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B438F-AA92-44A3-A6FA-79328DCB69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5F88-F0B7-4D4A-8315-94EDE0515D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B831-D8E8-4789-AEB4-2D660C092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BE60-D7B3-4596-B908-06417F451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5B5E-E5FF-4477-92CE-0C2C4FEAD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0C9B-9680-44EB-BF29-510532362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BB0A0-2224-428A-8A36-92AFC7C95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C88C-4D4D-47A9-BA5D-A12C7E315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279D-C79D-479F-A6C1-16BE915B1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EA52-76AB-44C4-99F0-1DC9C01635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FD6F-86F4-4B6D-BE26-5F54A62915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haring our Insigh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ig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umber off in your groups (1-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llery walk – 5 minutes /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1D8A-E823-4BD0-A60F-D9ECF938C8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io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back to your scary fraction st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 help this stu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1758-EF84-4C7E-9088-7F0D9D887E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lope and Fraction Meaning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view the Pancake Proble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fraction meanings do you see in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o they connect to each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FFC1-B408-47A0-A892-21ED41EC88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 and Predic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secondary students respond to the following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8515-4985-4E43-AA56-4FDDF27582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One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 an assignment, Jaime received the following scores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ction A:          Section B:         Total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Jaime was confused, because using what she knew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ractions, she didn’t think that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would you explain this to Jaime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47BB-DB7F-4851-97B2-3177E8EDCF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2133720" y="2362320"/>
                <a:ext cx="2538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4419720" y="2362320"/>
                <a:ext cx="2538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5867280" y="2362320"/>
                <a:ext cx="4194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4876920" y="3809880"/>
                <a:ext cx="15494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Two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w what you know about 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different representations to communicate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489A-4481-4FE1-9089-591C95D42D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5715000" y="1447920"/>
                <a:ext cx="4827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7327800" y="1523880"/>
                <a:ext cx="4572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Three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ive a real life example of a problem where the solution could involve dividing by 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BAF7-8535-46AB-A880-88E9CAD814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Four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 you know about          ?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diagrams, numbers, algebra, words etc. to communicate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5840-6E92-4EF8-A2DC-F9A554B904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5181480" y="1523880"/>
                <a:ext cx="723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Fiv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one sentence that  makes sense that includes ALL of  these words and numbers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per, fraction, simple, challenging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5833-9745-4038-93E3-1DB784E919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have you noticed /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your lingering wonder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7D81-AB68-47B4-BCB6-FAB3DF0F86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 and 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presentations and meanings of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nections to secondary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lated Gap Closing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s students struggle with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7299-B712-40E4-BCD6-145FD91BC3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3A17-F6C6-41ED-861F-D08080BFF0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cary Stor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a story from your personal teaching experience involving student misconceptions about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ner/Outer Circle – share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542E-8356-4932-8A23-1E2DEF3E0B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eanings and Conne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dividuall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a fraction, and represent it in as many different ways as you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two problems from secondary math that feature THAT fra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B531-28EF-4598-A6C1-2E8121B4E5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two people with the same fraction a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meanings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to curriculum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72E0-1AC8-4480-B7BF-955005BBC9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6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ap Closing - Organiz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6" name="Content Placeholder 4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8248680" cy="5291280"/>
          </a:xfrm>
          <a:prstGeom prst="rect">
            <a:avLst/>
          </a:prstGeom>
          <a:ln w="0">
            <a:noFill/>
          </a:ln>
        </p:spPr>
      </p:pic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570D-93E4-46DB-BC6D-0E75460998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Up-Down Arrow 5"/>
          <p:cNvSpPr/>
          <p:nvPr/>
        </p:nvSpPr>
        <p:spPr>
          <a:xfrm>
            <a:off x="1611360" y="3276720"/>
            <a:ext cx="380880" cy="76176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7575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ing GAP Clos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Gap Clos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Fractions Subtop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) Comp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2) Adding and Subtracting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3) Multiplying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4) Dividing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roportional Subtopics: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5) Describing and Representing Ratios, Rates and Perc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6) Equivalent Forms of Ratios, Rates and Perc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11C7-7FAD-42C2-869C-7A9B4FC144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e, Discuss, Summariz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materials for your topic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s students struggle (F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Diagnosti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SB, F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c000"/>
                </a:solidFill>
                <a:latin typeface="Arial"/>
              </a:rPr>
              <a:t>Intervention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SB, F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summary sheet (chart paper) of key ideas / tips for secondary teac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F2C4-FEFB-4A86-9D82-89031BF42E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17T11:49:22Z</dcterms:modified>
  <cp:revision>32</cp:revision>
  <dc:subject/>
  <dc:title>&lt;Title&gt;</dc:title>
</cp:coreProperties>
</file>